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00720" y="5521320"/>
            <a:ext cx="1220760" cy="1220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33480" y="4513320"/>
            <a:ext cx="1220760" cy="1220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211480" y="152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群創光電股份有限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119052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028960"/>
            <a:ext cx="7704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SOP of PCBA ISP Program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-----Manufacturer of Scaler is M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（ 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Manufacturer of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FW is SST/PMC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8517" t="50913" r="28030" b="40759"/>
          <a:stretch/>
        </p:blipFill>
        <p:spPr>
          <a:xfrm>
            <a:off x="1979640" y="4292640"/>
            <a:ext cx="468000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68360" y="2781360"/>
            <a:ext cx="4248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Thanks!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155736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tional  con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708280"/>
            <a:ext cx="8316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Equipment: </a:t>
            </a:r>
            <a:r>
              <a:rPr b="1" lang="zh-CN" sz="2800" spc="-1" strike="noStrike">
                <a:solidFill>
                  <a:srgbClr val="3333cc"/>
                </a:solidFill>
                <a:latin typeface="新細明體"/>
              </a:rPr>
              <a:t>PC, </a:t>
            </a: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ISP card, signal cable and power cable.</a:t>
            </a:r>
            <a:r>
              <a:rPr b="1" lang="zh-CN" sz="2800" spc="-1" strike="noStrike">
                <a:solidFill>
                  <a:srgbClr val="3333cc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ESD  requirements:  antistatic wrists, antistatic gloves       (fingers), and connecting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Name of ISP program: ISP_Tool_v3.7.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Manufacture of FW IC</a:t>
            </a: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：</a:t>
            </a:r>
            <a:r>
              <a:rPr b="1" lang="zh-TW" sz="2800" spc="-1" strike="noStrike">
                <a:solidFill>
                  <a:srgbClr val="3333cc"/>
                </a:solidFill>
                <a:latin typeface="新細明體"/>
              </a:rPr>
              <a:t>PMC/SST/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03280" y="1052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◆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rational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91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一</a:t>
            </a: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. Connection: connect PC to PCBA with signal            cable, and then keep AC and DC in open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2808360" cy="182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1640" y="321300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51280" y="4076640"/>
            <a:ext cx="1544760" cy="360360"/>
          </a:xfrm>
          <a:prstGeom prst="leftRightArrow">
            <a:avLst>
              <a:gd name="adj1" fmla="val 50000"/>
              <a:gd name="adj2" fmla="val 8533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7760" y="3645000"/>
            <a:ext cx="2478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</a:rPr>
              <a:t>sign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9920" y="1062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二</a:t>
            </a: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.Adjust ISP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新細明體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新細明體"/>
              </a:rPr>
              <a:t>Firstly, double click ISP_Tool_v3.7.5EXEI and open ISP program, then select “Device”,  next select manufacturer model of FW IC, which should be correspondent with that of PCBA FW IC. Double click Figure On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5183280" cy="236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4437000"/>
            <a:ext cx="1079640" cy="647640"/>
          </a:xfrm>
          <a:prstGeom prst="wedgeRoundRectCallout">
            <a:avLst>
              <a:gd name="adj1" fmla="val 90884"/>
              <a:gd name="adj2" fmla="val 5122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新細明體"/>
              </a:rPr>
              <a:t>FW 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新細明體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87040" y="609300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Figur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19280" y="9810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       </a:t>
            </a: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Secondly﹐download FW software:  first select “READ”, and then load  FW software in Rooter (Fig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0404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3480" y="624060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Figur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3500280"/>
            <a:ext cx="1656000" cy="576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FW software roo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941720"/>
            <a:ext cx="1655640" cy="576360"/>
          </a:xfrm>
          <a:prstGeom prst="wedgeRoundRectCallout">
            <a:avLst>
              <a:gd name="adj1" fmla="val 57476"/>
              <a:gd name="adj2" fmla="val -7093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標楷體"/>
              </a:rPr>
              <a:t>Software Checksum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92360" y="73980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12682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Thirdly, select “Connect”and enter ISP MODE as in the following Figure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2658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13440" y="56404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Times New Roman"/>
                <a:ea typeface="標楷體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73980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17733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新細明體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新細明體"/>
              </a:rPr>
              <a:t>Fourthly, select “AUTO”, and keep its default value. Click “RUN” for beginning programming. There will be prompting if programming is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6059520" cy="2838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27640" y="4437000"/>
            <a:ext cx="10810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22100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新細明體"/>
              </a:rPr>
              <a:t>Programm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新細明體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新細明體"/>
              </a:rPr>
              <a:t>calibra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23000" y="58053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標楷體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2360" y="73980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1628640"/>
            <a:ext cx="5977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◆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</a:rPr>
              <a:t>Note:</a:t>
            </a:r>
            <a:r>
              <a:rPr b="1" lang="zh-TW" sz="2400" spc="-1" strike="noStrike">
                <a:solidFill>
                  <a:srgbClr val="3333cc"/>
                </a:solidFill>
                <a:latin typeface="新細明體"/>
              </a:rPr>
              <a:t> if programming fails or success rate is not high, click “Config” and adjust its speed in 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“</a:t>
            </a:r>
            <a:r>
              <a:rPr b="1" lang="zh-TW" sz="1800" spc="-1" strike="noStrike">
                <a:solidFill>
                  <a:srgbClr val="3333cc"/>
                </a:solidFill>
                <a:latin typeface="Times New Roman"/>
                <a:ea typeface="標楷體"/>
              </a:rPr>
              <a:t>E2PROM DEVICE SETT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6067440" cy="2867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360" y="3716280"/>
            <a:ext cx="1943280" cy="936720"/>
          </a:xfrm>
          <a:prstGeom prst="rect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23000" y="58053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標楷體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820000" y="6597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24000" y="692280"/>
            <a:ext cx="6060240" cy="5846760"/>
            <a:chOff x="2124000" y="692280"/>
            <a:chExt cx="6060240" cy="5846760"/>
          </a:xfrm>
        </p:grpSpPr>
        <p:sp>
          <p:nvSpPr>
            <p:cNvPr id="87" name=""/>
            <p:cNvSpPr/>
            <p:nvPr/>
          </p:nvSpPr>
          <p:spPr>
            <a:xfrm>
              <a:off x="5607720" y="1074960"/>
              <a:ext cx="25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◆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r>
                <a:rPr b="1" lang="zh-TW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lowing ch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24000" y="692280"/>
              <a:ext cx="2519280" cy="64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After connecting, AC ON, DC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5640" y="1627560"/>
              <a:ext cx="2447640" cy="431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Open ISP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95640" y="2348280"/>
              <a:ext cx="2376360" cy="647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Choose manufacturer and model of FW 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95640" y="3285000"/>
              <a:ext cx="2376360" cy="419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LOAD FW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95640" y="4003920"/>
              <a:ext cx="2376360" cy="647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Click Connect and enter ISP M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68360" y="5011920"/>
              <a:ext cx="2232360" cy="64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Click AUTO and RUN for beginning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9560" y="5948640"/>
              <a:ext cx="2351160" cy="590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標楷體"/>
                  <a:ea typeface="標楷體"/>
                </a:rPr>
                <a:t>Turn off power if programming is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3640" y="1340280"/>
              <a:ext cx="21600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3640" y="2061000"/>
              <a:ext cx="21600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3640" y="2995920"/>
              <a:ext cx="216000" cy="216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3640" y="3716640"/>
              <a:ext cx="216000" cy="216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3640" y="4651560"/>
              <a:ext cx="216000" cy="216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03640" y="5661360"/>
              <a:ext cx="216000" cy="216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6000" y="126864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5760" y="198468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56000" y="2924640"/>
              <a:ext cx="720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56000" y="364356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56000" y="4580280"/>
              <a:ext cx="720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0440" y="558828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35280" y="5804280"/>
              <a:ext cx="2952720" cy="73080"/>
            </a:xfrm>
            <a:prstGeom prst="rightArrow">
              <a:avLst>
                <a:gd name="adj1" fmla="val 50000"/>
                <a:gd name="adj2" fmla="val 101009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88000" y="551844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35280" y="4724640"/>
              <a:ext cx="3024360" cy="144360"/>
            </a:xfrm>
            <a:prstGeom prst="leftArrow">
              <a:avLst>
                <a:gd name="adj1" fmla="val 50000"/>
                <a:gd name="adj2" fmla="val 52375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2720" y="4724640"/>
              <a:ext cx="2736720" cy="115272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  <a:ea typeface="標楷體"/>
                </a:rPr>
                <a:t>Choose Config and adjust programming 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53:47Z</dcterms:created>
  <dc:creator>F2101592</dc:creator>
  <dc:description/>
  <dc:language>en-US</dc:language>
  <cp:lastModifiedBy>F3113364</cp:lastModifiedBy>
  <dcterms:modified xsi:type="dcterms:W3CDTF">2008-12-08T04:51:25Z</dcterms:modified>
  <cp:revision>743</cp:revision>
  <dc:subject/>
  <dc:title>PowerPoint 簡報</dc:title>
</cp:coreProperties>
</file>